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B4F78-7513-4D83-B890-62608B599F4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BF3E5-6131-428E-9FF7-4722B0D7516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523ED-AF35-46FA-B93F-0D3EAF5F144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F136F-D4DE-4CF6-B95E-DB2ABCC7037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92FC1-511F-42EC-8B27-A353EEA69A9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3C2C5-DC50-4474-A961-376C16ABFEF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C2184-5E59-491E-8BFD-D3F77C4B2A4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68FFD-1BFC-4326-96B7-DBF4E0C1991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34421-AB7C-4D6C-9256-73D410E5B30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44187-0545-4DB3-A23A-B50F29E8862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EDEFB-7E68-4C23-B280-7D7C776ECB6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FACAC-2136-4E87-B92E-650A878FF6F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EDB43-73C0-431B-8B15-8EA7660A857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48144-3F78-4C70-86E8-E51A87AC661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41283-0B4D-4660-B0AC-92D36D98A8A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5AA21-7773-4FB9-BD1A-F6DAD3BE18D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CCFD7-32B6-4058-ADC5-142B7093FA2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7C51C-1440-4816-A513-89F2CBA9FE5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3744D-4178-4C63-AFA0-AA408BB1B6C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546D6-4813-4213-8F4C-D4CA255B74F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D44E7-3689-4716-8F1E-F4508389EE3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A2B63-9701-4E77-996D-C6292B7137E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CE72C-4230-4CAB-A7DA-784DFC78123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CAAB9-584F-4DB0-B67B-1F978F4D5BA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85B5-E38B-4398-BD35-99E917128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F731-2DF2-4558-90EB-5F5965025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61893-7D40-4FAC-8268-C6B6FAAB0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BE87-A461-4108-97F6-0612E949A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48B2-E9E2-43C5-A2E4-C1F9CFE8B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ADC0-BB4C-4DD1-BD87-8747EB1E4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9A60-3107-4AA8-B016-5BED109FE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0ED6-38BA-4243-A214-E14D87BED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D65C-0B6A-48E7-9FB3-B16A2105A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8E7F0-A1AA-45A2-A35B-B6DC7E112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910A-6618-4931-A366-70B0E4E3B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E27B-EFD4-4BE6-9BB2-E72CF4C3D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F7461D-2293-4A95-ADFF-506559A38FA3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Reforma budżetowa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, 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 - 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38240" y="6014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Warszawa, 11 grudni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65530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880" y="6491160"/>
            <a:ext cx="66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fera wymiany: wolność - odpowiedzialność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większona swobod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ktorów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dministr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zacja środków w danym program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odzajowa zamienność środków z ograniczeniem do funduszu pł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woboda rozwoju kadrowego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 limitem liczby zatrudnionych w przeliczeniu na pełne eta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Większa odpowiedzialnoś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arządzając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rograma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5276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obowiązanie co do celów i sprawozdawczość z osiąganych wynikó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prawozdawczość wykorzystania środków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 podziale: rodzajowe i celow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ięcej informacji dotyczących wykonania budżetu: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środki zabudżetowane i realizac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7FBF-D3EB-467D-9202-8A26AA84E5BA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7247160" cy="59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0960" y="4481640"/>
            <a:ext cx="1384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40079"/>
                </a:solidFill>
                <a:latin typeface="Arial"/>
              </a:rPr>
              <a:t>zamienność</a:t>
            </a:r>
            <a:r>
              <a:rPr b="0" lang="fr-FR" sz="1600" spc="-1" strike="noStrike">
                <a:solidFill>
                  <a:srgbClr val="a4007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38720" y="2963880"/>
            <a:ext cx="1962360" cy="1432080"/>
            <a:chOff x="5238720" y="2963880"/>
            <a:chExt cx="1962360" cy="1432080"/>
          </a:xfrm>
        </p:grpSpPr>
        <p:sp>
          <p:nvSpPr>
            <p:cNvPr id="181" name=""/>
            <p:cNvSpPr/>
            <p:nvPr/>
          </p:nvSpPr>
          <p:spPr>
            <a:xfrm>
              <a:off x="5425920" y="3681360"/>
              <a:ext cx="1775160" cy="714600"/>
            </a:xfrm>
            <a:custGeom>
              <a:avLst/>
              <a:gdLst>
                <a:gd name="textAreaLeft" fmla="*/ 310680 w 1775160"/>
                <a:gd name="textAreaRight" fmla="*/ 1287000 w 1775160"/>
                <a:gd name="textAreaTop" fmla="*/ 95760 h 714600"/>
                <a:gd name="textAreaBottom" fmla="*/ 6188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38720" y="2963880"/>
              <a:ext cx="1774800" cy="717480"/>
            </a:xfrm>
            <a:custGeom>
              <a:avLst/>
              <a:gdLst>
                <a:gd name="textAreaLeft" fmla="*/ 310320 w 1774800"/>
                <a:gd name="textAreaRight" fmla="*/ 1286640 w 1774800"/>
                <a:gd name="textAreaTop" fmla="*/ 96120 h 717480"/>
                <a:gd name="textAreaBottom" fmla="*/ 62136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06880" y="5616720"/>
            <a:ext cx="1359000" cy="358560"/>
          </a:xfrm>
          <a:prstGeom prst="rightArrow">
            <a:avLst>
              <a:gd name="adj1" fmla="val 50000"/>
              <a:gd name="adj2" fmla="val 9475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2360" y="4971960"/>
            <a:ext cx="1358640" cy="358920"/>
          </a:xfrm>
          <a:prstGeom prst="rightArrow">
            <a:avLst>
              <a:gd name="adj1" fmla="val 50000"/>
              <a:gd name="adj2" fmla="val 9463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55800" y="3179880"/>
            <a:ext cx="903600" cy="787320"/>
            <a:chOff x="3655800" y="3179880"/>
            <a:chExt cx="903600" cy="787320"/>
          </a:xfrm>
        </p:grpSpPr>
        <p:sp>
          <p:nvSpPr>
            <p:cNvPr id="186" name=""/>
            <p:cNvSpPr/>
            <p:nvPr/>
          </p:nvSpPr>
          <p:spPr>
            <a:xfrm>
              <a:off x="3741840" y="3575160"/>
              <a:ext cx="817560" cy="392040"/>
            </a:xfrm>
            <a:custGeom>
              <a:avLst/>
              <a:gdLst>
                <a:gd name="textAreaLeft" fmla="*/ 142920 w 817560"/>
                <a:gd name="textAreaRight" fmla="*/ 592920 w 817560"/>
                <a:gd name="textAreaTop" fmla="*/ 52560 h 392040"/>
                <a:gd name="textAreaBottom" fmla="*/ 33948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655440" y="3179880"/>
              <a:ext cx="817560" cy="393480"/>
            </a:xfrm>
            <a:custGeom>
              <a:avLst/>
              <a:gdLst>
                <a:gd name="textAreaLeft" fmla="*/ 142560 w 817560"/>
                <a:gd name="textAreaRight" fmla="*/ 592560 w 817560"/>
                <a:gd name="textAreaTop" fmla="*/ 52560 h 393480"/>
                <a:gd name="textAreaBottom" fmla="*/ 34092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60840" y="4900680"/>
            <a:ext cx="52704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59040" y="4900680"/>
            <a:ext cx="45540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Zamienność w łonie progam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84E3-5033-4CC5-8D16-C1973DFCE76A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udżet ukierunkowany wynikowo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ążenie do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YDAJNOŚC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określane w ramach zabudżetowanych 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budżetowanie cel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 dot. poprawy skuteczn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Zobowiązania wyni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y plan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prawozdawcz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e sprawozdanie nt.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Ta sama prezent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truktura co rocznego planu wydajnośc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m ułatwienia porów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ognoza/realizacj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yjęcie w pierwszym czytaniu usta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zlicz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n-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ed zbada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4051-1A17-4B63-8F33-D1A375D04C17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ens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etodologiczny przewodni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 użytek rządu, parlamentu, najwyższego organu kontroli 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bór celów i wskaźników reprezentatywny dla priorytetów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eg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jaśniania spó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żliwiające zaspokojenie oczekiwać obywate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żytkownika i podatni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olitycz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użące do pomiaru realizacji przyjętych cel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jaśniają polityki i są przedstawiane parlamentowi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ozdanie zaś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ą wykorzystywane i przenoszone na szczebel zarządzania wewnętrznego, nadają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ens działalności każdego pracowni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213D-E522-4258-BF01-7AAE9999FDE6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miary wydaj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zy wymiar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s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ołeczno-ekonomi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obywatel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czekiwane skutki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jakość świadczonej usług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użytkow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móg jak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 zarządz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podat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ptymalizacja środk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u wyników w przypadku każdego ustalonego cel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zyskiwane i oczekiwane poziom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nie działalności czy środ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ające się przypisa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t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ała kontrola sprawowana przez niezależny organ publiczny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ędzyresortowy Komitet Audytów Program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B73F-8B5A-4A62-B8A5-ABCA6038761C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 na progra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i na c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– 1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ów w rok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2240" y="2349360"/>
            <a:ext cx="7818480" cy="3458880"/>
            <a:chOff x="822240" y="2349360"/>
            <a:chExt cx="7818480" cy="3458880"/>
          </a:xfrm>
        </p:grpSpPr>
        <p:sp>
          <p:nvSpPr>
            <p:cNvPr id="201" name=""/>
            <p:cNvSpPr/>
            <p:nvPr/>
          </p:nvSpPr>
          <p:spPr>
            <a:xfrm>
              <a:off x="826920" y="498960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6920" y="389844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576756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6920" y="304272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6920" y="2505240"/>
              <a:ext cx="1851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unkt </a:t>
              </a:r>
              <a:r>
                <a:rPr b="0" lang="pl-PL" sz="1800" spc="-1" strike="noStrike">
                  <a:solidFill>
                    <a:srgbClr val="ff9933"/>
                  </a:solidFill>
                  <a:latin typeface="Arial"/>
                </a:rPr>
                <a:t>wi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5680" y="2505240"/>
              <a:ext cx="14749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  </a:t>
              </a: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Oś anali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3760" y="2349360"/>
              <a:ext cx="1973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cel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6280" y="2349360"/>
              <a:ext cx="15073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wskaźnik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2240" y="3132000"/>
              <a:ext cx="10958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Obyw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2240" y="3909960"/>
              <a:ext cx="12985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żytkow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6200" y="4989600"/>
              <a:ext cx="1031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Podat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26040" y="3102120"/>
              <a:ext cx="16246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 spo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łeczno-ekonomic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25320" y="3932280"/>
              <a:ext cx="17755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akość świadczone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sług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26400" y="5024520"/>
              <a:ext cx="11307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</a:t>
              </a:r>
              <a:br>
                <a:rPr sz="1400"/>
              </a:b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54480" y="307800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większenie integr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wodowej młod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32680" y="3044880"/>
              <a:ext cx="240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 pracując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esięcy po uzyska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2320" y="3932280"/>
              <a:ext cx="19249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yspieszenie decyz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ąd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4480" y="502452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kosz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 podat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i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9080" y="3900600"/>
              <a:ext cx="2177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wydaw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ia opini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stępowania sądow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36640" y="4991040"/>
              <a:ext cx="22035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oszt na płatnika każd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aju po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72A0-34AB-4866-8ABD-29015C0D3D82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ejrzystość informacj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tki osob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postaci kosztu całkowitego z uwzględnieniem składek pracodawc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ał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ów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ych przez państwo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liczeniu na pełne eta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zasadnienie pierwszego eur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lementy fizyczno-finans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enie zasa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wers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sta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erator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taty i środ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eneraliz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twierdzania środków budżetowa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każdego rodzaju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chunkow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nalizy kosztu dział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zdział funkcji wspierających i usług wielofunk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A4B38-D1B3-4EB2-B6B8-B9CB0C7E61B4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Narzędzia pomiaru sytuacji finansowej państwa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soka kompatybilność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poziomie ustawy organic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ok rachunkowości budżetowej w kas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prowadzenie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owości roku finansowego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względniającej prawa stwierdzo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celem zapewnienia przejrzystości sytuacji finansowej państ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bila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ytuacja pozabilanso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i prawidł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zetel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dając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ierny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raz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majątku i sytuacji finansowej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óg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jakości księgow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wierzanej księgowym wyposażonym w sprzęt komputerow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A135-B963-4FF7-9DE5-8502B447BB2B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 trójwymiaro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budżet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piera się na księgowaniu przychod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wydatków budżet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kaso/płat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datkowy okres księg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n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dwójne monitor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roku finansow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piera się na stwierdzenie praw i zobowiąz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bliskie powiązania z regułami rachunkowości przedsiębio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 się operacje z tytułu roku finansow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którego się one odnosz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zależnie od daty ich płatności lub inkas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naliza kosztów dział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łużbie zarządzając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r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79640" y="189000"/>
            <a:ext cx="663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B043-3457-47C7-889E-CB4A1928C190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względnianie nowej księgow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finicja ram pojęci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rmy rachunk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13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rm ustanowionych przez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mitet ds. Norm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a podstawie stanów finans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rodków trwał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obowiąza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1 ma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ja 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twierdzenie mocą rozporządze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dzaje no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pla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rachun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dzaj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bió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kcji księg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nstrukcja bilans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wentaryzacja 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ycena nieruchom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 rynk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ne środki trwał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zeczowe i zapas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a certyfik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Naczelny Organ Kontro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i za lat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3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po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strzeżeni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 charakterze ogólnym dot. systemów informacji oraz kontroli wewnętr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4A95-89D3-4076-BF52-D404D02EFF89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wa organiczna z dnia 1 sierpnia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1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roku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sprawie ustaw budżetow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( LOLF)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e Francj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owa konstytucja finansowa dla państw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nicjatywa parlamentarn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lityczne porozumienie ponad podziałam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Konsensus z rząde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D2A8-E557-4D89-BD7E-2ED8B77CFF27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zrost roli parlament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ardziej czytel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i przyjęcie wielkich polityk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o środkach pierwsz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euro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trudnieni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rmacja wzbogacona celem kontroli wydat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AP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łączni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déba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tencjalnie bogatsz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szerzenie prawa do popraw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noszenie między programami w ramach tego samego zad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ko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y dostęp do informacji dl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ji ds. finans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kty normatyw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e uprawnienia śledcze i 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zesłuchi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parcie ze strony Trybunału Obrachunkow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znacz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rozliczeniowej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jącej rachunki oraz roczne sprawozdania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F867-22E0-47F0-9EDD-3D4FA5A4A9B1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5162400"/>
            <a:ext cx="33526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94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noszonyc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wie automatycznie z roku na ro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iały  głosowan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z kwestionowa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nicza część debaty dotyczy jedyn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żetu ogólnego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024520"/>
            <a:ext cx="32767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dmiotem dyskusj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arlamentarnej z uwzględnieniem poszczególnych zada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d budżetu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we środk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 w rok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34792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ały głosowa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1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so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dań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301320"/>
            <a:ext cx="8353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zmocniona i unowocześniona debat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CFD3-DEDB-4A30-81B9-2A0500DF24E1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system odpowiedzial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ilotaż kierownika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 uzgodnieniach przeprowadzanych przez dyrektora ds. finans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sponowanie środkami i rozdzielanie ich na potrzeby zarządzania wewnętrzn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obowiązanie wydajności podejmowane wobec Parlamen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daje sprawę Parlament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y programu mogą pilotować kilka dyrekcj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enedżers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ie zasłu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9267-9995-4ADD-8F0E-B9D57CDA47C6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ekoncentracja zarządzania budże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gramy krajowe przekładają się na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bud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et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peracyjny programu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(BOP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ny obszar lub teren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lan działania z celami i wskaźnikami wydajności dostosowanymi do wyzwań operacyjnych zdekoncentrowanych działów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liminarz budżet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ściślający cele i rodzaje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chemat organizacji finans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rządz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ierownik operacyjnego budżetu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ysponent operacyjnego budżetu programu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udżetowanie środków i sprawozdanie kierownikowi programu w ramach dialogu zarządcz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CCFD-DF0D-445B-AC88-4E57072519BE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ozluźnienie kontroli ministerstwa finans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rola budżetowa wykon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zygnacja z kontroli prawidłow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erzona zarząd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tępne wizowanie początkowego planu budżetow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 zarządz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odularność kontroli z kontrol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 priori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ależności od wyzwań i zagrożeń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wartalne sprawozdania zarządcze składane przez zarządzając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zluźniona kontrola księgow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hierarchizowana lub partners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wzmocnio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ewnętrzna kontrola księg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warantując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akość księgow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D93D-3319-4FB7-9B12-8DE1EDE53680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ealizacja kontroli należy do ministerstw zarządzający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zarządzani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prawić stosunek środków zabudżetowanych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 działalności albo uzyskanych wyników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ialna i programowa kontrola zarządz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jak też  na szczeblu lokalny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zmocnien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wewnętr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sekwencja reorganizacji ministe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raz złagodzenie kontroli finansowy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stanowienie wewnętrznej kontroli księgowej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audytu wewnętrznego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ziałalność wewnętrzna prowadzona przez dedykowane zespoł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nspekcj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FA15-8EE7-4A3B-BAC7-27CC6522F9FE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nowienie nowych systemów informacyjn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ystem prowizoryczny od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le mało zadowalając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owe zintegrowane oprogramowanie zarządcz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ERP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budow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CHORUS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bejmując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ałość centralnej i zdekoncentrowanej administrac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szystkie cele wydat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chody oraz każdy rodzaj księgowośc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centra danych umożliwiające zwro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źwignia modernizacji i poprawy produktywn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przedzona przez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einżynierię procesów finansow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 (23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icencje zamiast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ostępujący rozwó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zewidziany w okres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wsparcie rozwoj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244E-D025-415D-B01D-8D3C355A74FA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Konkludując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ługotrwałość reform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Główne etapy reformy budżetow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440" y="3141720"/>
            <a:ext cx="13129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łosow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arlamen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tworzenie Dyrekcji ds. Reformy Budżet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141720"/>
            <a:ext cx="1800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projekt ustawy budżetowej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le wydajnośc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kaźniki program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ort Lambert/Migaud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wdroże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ustawa budżetowa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 &amp;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bata parlamenta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51640" y="3135240"/>
            <a:ext cx="1692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roczne sprawozdania wydaj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rtyfikacja rachunków przez Trybunał Obrachunk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dowanie podw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efigur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drożeni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owa agencja zarządzania systemami informacyj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9081-9DF1-454A-AFE3-551B19445048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reform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ilotaż zapew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tworzenie dedykowanej struktur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yrekcja projektu utworzona na okres ograniczon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5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rzędników wysokiego szczebla wspieranych przez konsultantów cele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definiowania nowych reguł budżetowo-księg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e współpracy dyrekcji ds. budżetu i rachunkowości publ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pewnienia międzyresortowego pilotażu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itet dyrektorów finansowych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forum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ków program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nimowanie lokalnych komitetów ds.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pa drog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alendarz, kamienie mil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tała konsultacje z komisjami ds. finansów w 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32EB-8E6D-4E16-B5EE-3CAD6D90B8FC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auki płynące z wdrażan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ość zaangażowania na najwyższym szczebl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wsparcie polityczn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enedżerów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ferze kultury odpowiedzialności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na szczeblu ministerstw dla wszystkich pracowników,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ależnie od ich poziom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 instruktor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rzystanie z możliw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ksperymentow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em przyswojenia sobie reform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omunikacj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ewnętrzna i wewnętrzn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e napięc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alendarz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D05B-13C0-4773-A957-6E002FDD863D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OLF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usi zaspokajać oczekiwani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adn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Zwiększona czytelność budżetu i przejrzystość wyko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przeznaczanie zasobów na realizację polityk publi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urzędnikó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Większa swoboda i wzmożona odpowiedzialność aktorów administracji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Jasne c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Obywatele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rozumienie wykorzystania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żytkow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dostosowanie służb publicznych do potr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odat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wykorzystanie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obywat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8F9F-F7E6-4404-AD78-A2D31802741A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erwsze wyniki zachęcają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ran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trzymała termin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tyczo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ustawa budżetowa przyjęta w tryb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LOLF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rachun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rodzin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wej formy odpowiedzi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chęcającej resorty do redefinicji cel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legując 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chęca do poprawy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ługi publicznej oraz lepszego wykorzystania zasobów publiczn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twar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 ope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inansowych i zasobów ludzki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zeczywiste wzbogac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 zarządcz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przełożenie na poprawę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7A1B-8988-4CC4-B4DA-83EB5DCB2BF5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mo trudnych początkó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aza nau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standar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narzędz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kalendar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ciąż jeszcze mały margines manewr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aby rozwó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lagowanie środków przez instancje administracji central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ciążenie prac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złożone i większ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ięcej inform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cedur budżetowani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awy dotyczące dyspozycyjności i dokładności niektór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arzędz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właszcza zintegrowanych systemów zarządcz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rozstrzygnięta debata na temat podziału zysków produktyw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ło umów wieloletn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blem stosowania reformy w okresie deficytu budżetowego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12F9-E3A8-403C-9B1F-56B3EAAD04C1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zwania długoterminow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polity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zeczywista rola Parlament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administracyj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pójność zasięgu ważnych program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100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kompetencje administracji central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pomiędzy administracją centralną a działami zdekoncentrowany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między aktor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y zarządz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;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cy programów ope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e wspier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chęty do osiągania wyników i poprawy zarządzania zasob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udzki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eżka zawod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ła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onifika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kultur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jście od kultury środków i prawidłowości do kultury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techni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sprawnić systemy informacji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rzecz jakości i wiarygodności da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1337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6858000" y="647208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647208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514600" y="6400800"/>
            <a:ext cx="48769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F9FA-227F-49E7-A169-B3DDA34AE0C7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ilka reform w uroczystym tekśc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menklatura budżet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miotem dyskus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osowanie w sprawie wykonania ustaw budżetowych w celu prezent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udżet ukierunkowany na wy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posażony w 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umożliwienia lepszego zarządzania publiczn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precyzyjne i przejrzyste rachun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zujące 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owości stwierdzonych praw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analizie koszt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jące zarządzającym nowe narzędzia zarządzania wydatka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rządzania budżetem i procedur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legialność rządowa i aktywniejsza ro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en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ezwalaniu na wydatki oraz ich kontrol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F44D-6329-476F-B6E8-062EBB26543D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a architektur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179520"/>
            <a:chOff x="3249720" y="2209320"/>
            <a:chExt cx="5892840" cy="31795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Zadani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560" y="3431520"/>
              <a:ext cx="926640" cy="684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944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840" cy="200268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160" y="2431800"/>
              <a:ext cx="924840" cy="198792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61240"/>
              <a:ext cx="90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61960"/>
              <a:ext cx="879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61240"/>
              <a:ext cx="790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59800"/>
              <a:ext cx="833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69480" y="4335120"/>
              <a:ext cx="719640" cy="72756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4029480" y="4608360"/>
              <a:ext cx="632520" cy="9432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57760" y="3973320"/>
              <a:ext cx="721440" cy="145332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43400" y="4387680"/>
              <a:ext cx="721440" cy="62460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rządz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200" y="2400480"/>
            <a:ext cx="2584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yskusja i głos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Parlame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04560" y="3733920"/>
            <a:ext cx="1365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ezwo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yko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79CE-ED99-49E4-8B28-D88468AE154D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sj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raz wyborów polity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316640" cy="5400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32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zadania dla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dentyfikacja spójnych polityk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adanie to obejmuje całość programów przyczyniających się do realizacji określonej polityki publiczn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o jednomyślne głosowanie w Parlamen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 pewien zbiór program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arlament może dokonywać przesunięcia środków pomiędzy poszczególnymi program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ramach danej mis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oże mieć charakter ministerialny i międzyresortow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8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sji międzyresort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kła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adania nau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6AAE-99FE-4388-A6E3-A62D6FEA2216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03292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zkolnictwo wyższe i badanie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ształcenie wyższe i badania akademi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Życie studen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ielodyscyplinarne badania naukowo-technolog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rządzania ośrodkami i zasob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kosm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przemysł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812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nomia, przemysł, zatrudnie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995640"/>
              <a:ext cx="6105600" cy="7837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grożeń i zanieczyszcze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energety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transportu, infrastruktury i mieszka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log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Trwały rozwój i zagospodarow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Obr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du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ywilne i wojskow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wyższe i badania w dziedzinie ro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olnic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Kul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kultury i kultura nau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Zadani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« 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adanie naukowe i szkolnictwo wyższ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1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ogram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/ 6 minis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rst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F14C-7F34-4964-BCBD-A3AC31B321AD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amy zatwierdzania polityk publicznych i zarządzania ni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130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rogramów dot.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ogram obejmuje środki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iezależnie od ich rodzaju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znaczone na wdrażanie danego działania lub spójnej grupy działań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dlega jednemu ministrow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Jednostka specjalności środków i definiowania celów oraz wskaźników dot. osiąganych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Brak budżetowania analityczne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aga pilotażu, który ujawnia nowe funkcje menedżerski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DD3D-CE25-4D8F-87AB-13D218C9E6B0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cja penitencj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5445000"/>
            <a:ext cx="3619440" cy="6638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wadzenie i pilota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olityki w dziedzinie wymi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prawiedliwości or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rganów pokrew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ądownictwo powszec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chrona sądowa młodzież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ostępność praw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wymiaru sprawiedliw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Globalizacja środków</a:t>
            </a:r>
            <a:br>
              <a:rPr sz="3000"/>
            </a:b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ykład zadania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wymiar sprawiedliwości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Przedtem</a:t>
            </a: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 : 3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rozdział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16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artykułów prelimin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I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rodki poszczególnych dział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nagrodzenia za prac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c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tury i zasił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a zawodowo czynna i na emeryturz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obciążenia socj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przęt i funkcjonowanie dział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tacje bieżą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datk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erwencje publi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terwencje o charakterze polityczno-administracyjny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ziałania socj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omoc i solidar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westycje wykony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administracji 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tacje inwestycyjne przyzna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w dziedzinie kultury i w sferze społeczn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Potem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 : 5 program</a:t>
            </a: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BD1B-FA14-4692-9C15-B9D1C1069A3F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1:33:08Z</dcterms:modified>
  <cp:revision>176</cp:revision>
  <dc:subject/>
  <dc:title>La gestion de la réforme budgétaire </dc:title>
</cp:coreProperties>
</file>